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D99-AC1E-453E-9792-F78BE408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412-6217-4E86-893C-F86BB56D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BDC-5DAF-4393-9BF2-1BA0D58C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8E3-A8BA-445D-812C-7B858AE0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D3B-ACD1-4B0C-9D91-4D76B971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9E7-6CA8-4AC3-B8E8-C8F75378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8CD-452B-4629-8772-99B30BA0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8D3-1EC1-4C99-AD7C-1C0C216F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A89-F786-4CE7-9BBC-1FCBC688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CFD-8197-45F2-A998-0A739EC4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0EB-2883-46C2-A848-AC1E8FC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4F1-E6C8-4F6E-AD1D-E8920705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8753-2B96-4CC3-B5CD-1A8F1FD6D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2.bp.blogspot.com/_5WgCbrdqVTY/SwheDlWd2kI/AAAAAAAAJdo/MeVfsclD0C4/s1600/el-viaje-de-eneas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VIAJE DE E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73360"/>
            <a:ext cx="853272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9:15:07Z</dcterms:created>
  <dc:creator>AUDIOLEASK</dc:creator>
  <dc:description/>
  <dc:language>en-US</dc:language>
  <cp:lastModifiedBy>AUDIOLEASK</cp:lastModifiedBy>
  <dcterms:modified xsi:type="dcterms:W3CDTF">2010-02-24T19:16:32Z</dcterms:modified>
  <cp:revision>1</cp:revision>
  <dc:subject/>
  <dc:title>EL VIAJE DE ENEAS</dc:title>
</cp:coreProperties>
</file>